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85C-76A8-49B1-A420-82C2EEBE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ADF-97C9-4EC7-8CD3-A73415B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364-8317-4006-96ED-B458962C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EBE-5AB4-4095-9830-AD37A203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5A6-F418-4321-8F20-45679F05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EAD-AF21-4C2A-9CC5-7F7B95B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DCC-663E-485B-B70F-3A2A4A72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7A4-4774-4DE4-B1E0-404D2D2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B57-63E9-4C33-9FD0-3E0C995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B99-3102-443F-8295-A254E95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2F9-94F1-40E8-81D8-ED2B4F5A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557-0565-41BC-AFE0-90E39057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1ED-DA1C-4CCD-912F-3365C176A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7/Miamisburg_jqj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pload.wikimedia.org/wikipedia/commons/a/a8/Emerald_Mound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f/Grave_Creek_Mound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Grave_Creek_Mound" TargetMode="External"/><Relationship Id="rId4" Type="http://schemas.openxmlformats.org/officeDocument/2006/relationships/hyperlink" Target="http://upload.wikimedia.org/wikipedia/commons/7/76/Hopewell_mound_city_16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en.wikipedia.org/wiki/Hopewell_Culture_National_Historical_Park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en.wikipedia.org/wiki/Native_Americans_in_the_United_States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ember 5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Mound Builders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Ancient Pueblo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Aztec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2286000"/>
            <a:ext cx="4419360" cy="365760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cient Americ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und Buil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cient Pueb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zte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ringia Land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nps.gov/akso/beringia/journeyofdiscovery(map).jpg"/>
          <p:cNvPicPr/>
          <p:nvPr/>
        </p:nvPicPr>
        <p:blipFill>
          <a:blip r:embed="rId1"/>
          <a:stretch/>
        </p:blipFill>
        <p:spPr>
          <a:xfrm>
            <a:off x="228600" y="990720"/>
            <a:ext cx="3238560" cy="28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learnnc.org/lp/media/collections/rla/images/Beringia.jpg"/>
          <p:cNvPicPr/>
          <p:nvPr/>
        </p:nvPicPr>
        <p:blipFill>
          <a:blip r:embed="rId2"/>
          <a:stretch/>
        </p:blipFill>
        <p:spPr>
          <a:xfrm>
            <a:off x="6372360" y="952560"/>
            <a:ext cx="2695320" cy="270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superlinks.com.mx/wp-content/uploads/2008/03/area_beringia.png"/>
          <p:cNvPicPr/>
          <p:nvPr/>
        </p:nvPicPr>
        <p:blipFill>
          <a:blip r:embed="rId3"/>
          <a:stretch/>
        </p:blipFill>
        <p:spPr>
          <a:xfrm>
            <a:off x="3200400" y="3048120"/>
            <a:ext cx="376884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u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ui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8480" y="0"/>
            <a:ext cx="5105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Adena, Hopewell, and Mississippians were among the earliest people to create large, complex villages in North Americ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built giant mounds, or hills, out of the earth, which they often used to bury their de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und-building civilizations began about 3,000 years ago and lasted for about 2,500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f these mounds still exist toda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mound-building civilizations lived in the Ohio River Valley, the lower Mississippi Valley, over most of the Southeast, and as far north as  Wiscons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Image:Miamisburg jq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520" y="1752480"/>
            <a:ext cx="39150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Image:Emerald Mou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114800"/>
            <a:ext cx="343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mage:Grave Creek Mou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5181480" cy="2681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152280" y="28195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Grave Creek Mou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West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:Hopewell mound city 1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124080"/>
            <a:ext cx="411480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well mounds from th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Mound City Gro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Oh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www.primaleyecreations.com/Images/serpent.jpg"/>
          <p:cNvPicPr/>
          <p:nvPr/>
        </p:nvPicPr>
        <p:blipFill>
          <a:blip r:embed="rId7"/>
          <a:stretch/>
        </p:blipFill>
        <p:spPr>
          <a:xfrm>
            <a:off x="4648320" y="213372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4648320" y="4876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pent Mound - an ancien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ative America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eremoni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ci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52320" y="272880"/>
            <a:ext cx="5791320" cy="61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ved in what is now the Southwest about 2,000 years ag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eblo is the Spanish word for tow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the year 1100 , they were building structures, as large as modern apartment buildings, using mud and st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ound 1300, the Ancient Pueblo left their villages. No one knows why. It is possible that lack of rain or wood and warfare with other people caused them to mov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u_map1b.jpg (23496 bytes)"/>
          <p:cNvPicPr/>
          <p:nvPr/>
        </p:nvPicPr>
        <p:blipFill>
          <a:blip r:embed="rId1"/>
          <a:stretch/>
        </p:blipFill>
        <p:spPr>
          <a:xfrm>
            <a:off x="304920" y="1447920"/>
            <a:ext cx="2590560" cy="252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content.answers.com/main/content/wp/en-commons/thumb/c/cf/225px-Anasazi-es.svg.png"/>
          <p:cNvPicPr/>
          <p:nvPr/>
        </p:nvPicPr>
        <p:blipFill>
          <a:blip r:embed="rId2"/>
          <a:stretch/>
        </p:blipFill>
        <p:spPr>
          <a:xfrm>
            <a:off x="685800" y="4114800"/>
            <a:ext cx="2143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mage:Mesaverde cliffpalace 20030914.752.jpg"/>
          <p:cNvPicPr/>
          <p:nvPr/>
        </p:nvPicPr>
        <p:blipFill>
          <a:blip r:embed="rId1"/>
          <a:stretch/>
        </p:blipFill>
        <p:spPr>
          <a:xfrm>
            <a:off x="152280" y="152280"/>
            <a:ext cx="5105520" cy="3394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76320" y="3581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ff Palace, Mesa Verde National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:Canyon de Chelly1.jpg"/>
          <p:cNvPicPr/>
          <p:nvPr/>
        </p:nvPicPr>
        <p:blipFill>
          <a:blip r:embed="rId2"/>
          <a:stretch/>
        </p:blipFill>
        <p:spPr>
          <a:xfrm>
            <a:off x="4267080" y="3541680"/>
            <a:ext cx="4876920" cy="3316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5410080" y="2895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te House Ruins, Canyon de Chelly National Mon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Azte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ztecs ruled in Central Mexico for about 200 years, beginning around the year 1300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ir capital city was Tenochtitlan, a city of hundreds of buildings, roads, and a population of 250,000 peop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ztecs made their own calendar, and built large temples as part of their relig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the time the Aztec civilization lived in Central Mexico, groups of American Indians had settled in almost every region of North Amer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kidspast.com/images/aztec-empire.jpg"/>
          <p:cNvPicPr/>
          <p:nvPr/>
        </p:nvPicPr>
        <p:blipFill>
          <a:blip r:embed="rId1"/>
          <a:stretch/>
        </p:blipFill>
        <p:spPr>
          <a:xfrm>
            <a:off x="0" y="990720"/>
            <a:ext cx="3371760" cy="27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nonduality.com/12742.jpg"/>
          <p:cNvPicPr/>
          <p:nvPr/>
        </p:nvPicPr>
        <p:blipFill>
          <a:blip r:embed="rId2"/>
          <a:stretch/>
        </p:blipFill>
        <p:spPr>
          <a:xfrm>
            <a:off x="0" y="3608280"/>
            <a:ext cx="3429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richard-seaman.com/Travel/Mexico/Teotihuacan/PyramidOfTheMoonFromTheSouthWest.jpg"/>
          <p:cNvPicPr/>
          <p:nvPr/>
        </p:nvPicPr>
        <p:blipFill>
          <a:blip r:embed="rId1"/>
          <a:stretch/>
        </p:blipFill>
        <p:spPr>
          <a:xfrm>
            <a:off x="-304920" y="2514600"/>
            <a:ext cx="5423040" cy="3718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52280" y="76320"/>
            <a:ext cx="40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located about 50km  northeast of Mexico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static.flickr.com/34/65379733_d93ca3bd7a.jp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d.umn.edu/cla/faculty/troufs/anth3618/images/Tenochtitlan2.jpg"/>
          <p:cNvPicPr/>
          <p:nvPr/>
        </p:nvPicPr>
        <p:blipFill>
          <a:blip r:embed="rId3"/>
          <a:stretch/>
        </p:blipFill>
        <p:spPr>
          <a:xfrm>
            <a:off x="4467240" y="3809880"/>
            <a:ext cx="467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03T12:26:38Z</dcterms:modified>
  <cp:revision>19</cp:revision>
  <dc:subject/>
  <dc:title>Famous People Friday</dc:title>
</cp:coreProperties>
</file>